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DC2-1157-4346-AC14-3AFF3C57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970-ABDD-4C3A-9994-C38EB79F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320-F78E-47CC-8F22-D404A30D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829-19BD-47AB-A24C-5E8F43DC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C8B-F96E-498C-97C6-C555610D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2EB-3933-4531-81F0-5133CF95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10D-468E-4695-A106-EEA8ABBD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E8C-8B97-42E3-B889-9AB6370C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383-4E53-4CA1-80F5-D2690E37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952-4CC6-48F4-B244-EB9D908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C6B-0135-44A6-B09D-C9DAA5AA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6C1-A3E2-44D5-8A4B-4353D28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EBA2-0BE1-4799-BEF7-948AD4D3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mit.edu/invent/iow/kellogg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609480"/>
            <a:ext cx="86104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orn Flak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70160" y="384984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02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5440" y="3697200"/>
            <a:ext cx="405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n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7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Play Music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t Hur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8, 2011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playmus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-76320" y="7059600"/>
          <a:ext cx="398160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7059600"/>
                    <a:ext cx="39816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Kellogg"/>
          <p:cNvPicPr/>
          <p:nvPr/>
        </p:nvPicPr>
        <p:blipFill>
          <a:blip r:embed="rId1"/>
          <a:stretch/>
        </p:blipFill>
        <p:spPr>
          <a:xfrm>
            <a:off x="685800" y="838080"/>
            <a:ext cx="181620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41911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melson Mit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rnF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/1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kellogg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-4722" t="-3152" r="-33057" b="-23627"/>
          <a:stretch/>
        </p:blipFill>
        <p:spPr>
          <a:xfrm>
            <a:off x="6172200" y="91440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181480" y="3581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3657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Corn Fl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 Flakes helped patients with healthy di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their own company called ”Battle Creek Toasted Frosted Flak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loved the flakes so much that they would ask them to ship the fl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gan making different kinds of  Kellogg cereal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Will Keith Kello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Keith Kellogg was born on April,7 1886 in Battle Creek Michi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rked along the side of his  brother John Kellogg in the sanita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came interested in medicine and he decided to learned from his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ecided to make the Corn Flakes for healthy diets for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40Z</dcterms:created>
  <dc:creator>install</dc:creator>
  <dc:description/>
  <dc:language>en-US</dc:language>
  <cp:lastModifiedBy>install</cp:lastModifiedBy>
  <dcterms:modified xsi:type="dcterms:W3CDTF">2011-12-19T14:51:12Z</dcterms:modified>
  <cp:revision>7</cp:revision>
  <dc:subject/>
  <dc:title>Slide 1</dc:title>
</cp:coreProperties>
</file>